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A0E-0238-42AC-BD71-B8B3346D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C65-6A0B-4391-9071-22711A5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EDB-A316-41E9-A97A-281F5FF8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01A-BEA4-4FF7-BCEA-F86306B8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BF0-5509-4519-BB81-20A08E33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1FF-3C53-4D85-9D4D-68804A2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2DF1-D33E-436A-8A4D-1E8590F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31F-91B9-495B-9FEF-7C4B196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13F-1150-47E0-B676-519339B7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A20C-2314-4E90-8C46-8B88EBED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66D1-5C44-4946-8EC0-367A2ED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13D-A74B-45B8-9647-5959088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0AB-3979-49A6-9981-7B2FBF8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F41-3DF3-4481-93D8-167257E1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F05-21BD-4864-93FC-43CB1089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9E5-C4B5-4F96-8745-1E2E6C0E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82E6-390F-4BE1-81A6-C446EC28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5EC-9076-4D92-8471-A48FC2B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261-CDA8-4588-AE11-AB507ED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21C-AC9A-4661-93F1-18EE08D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F41-1B44-4740-A289-F4F1DA0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AF4-16D6-4667-9E55-26756B1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82D-9998-481C-A33B-82F6F8D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F32-855E-4408-960F-C2BEBF5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8DE4-C048-49BF-BC82-4BD77D1EA9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F678-159C-46C7-A765-CD1575F46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aniel “Alicea” Rey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5" descr="Picture 001"/>
          <p:cNvPicPr/>
          <p:nvPr/>
        </p:nvPicPr>
        <p:blipFill>
          <a:blip r:embed="rId1"/>
          <a:stretch/>
        </p:blipFill>
        <p:spPr>
          <a:xfrm>
            <a:off x="1752480" y="2590920"/>
            <a:ext cx="5562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n &amp; Raised in Lawrence, 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k St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rbox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akland Ave School (Methue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liver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lington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uen High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ingfield Colle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an in 6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rade, in Lawrence Youth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eted through HS and College and post college years National and International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Wrestling"/>
          <p:cNvPicPr/>
          <p:nvPr/>
        </p:nvPicPr>
        <p:blipFill>
          <a:blip r:embed="rId1"/>
          <a:stretch/>
        </p:blipFill>
        <p:spPr>
          <a:xfrm>
            <a:off x="2286000" y="2895480"/>
            <a:ext cx="4572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gan coaching in 1995 -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shop Guertin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ampton Prep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ton Boxboro Reg.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eater Lawrence Tech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OSG"/>
          <p:cNvPicPr/>
          <p:nvPr/>
        </p:nvPicPr>
        <p:blipFill>
          <a:blip r:embed="rId1"/>
          <a:stretch/>
        </p:blipFill>
        <p:spPr>
          <a:xfrm>
            <a:off x="838080" y="3962520"/>
            <a:ext cx="3424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00_2331"/>
          <p:cNvPicPr/>
          <p:nvPr/>
        </p:nvPicPr>
        <p:blipFill>
          <a:blip r:embed="rId2"/>
          <a:stretch/>
        </p:blipFill>
        <p:spPr>
          <a:xfrm>
            <a:off x="5029200" y="38862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00_2332"/>
          <p:cNvPicPr/>
          <p:nvPr/>
        </p:nvPicPr>
        <p:blipFill>
          <a:blip r:embed="rId3"/>
          <a:stretch/>
        </p:blipFill>
        <p:spPr>
          <a:xfrm>
            <a:off x="6477120" y="1676520"/>
            <a:ext cx="24987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ift All Focus Towa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ing Degree Programs &amp; My Studies Here at Cambridge Colle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MP900439497[1]"/>
          <p:cNvPicPr/>
          <p:nvPr/>
        </p:nvPicPr>
        <p:blipFill>
          <a:blip r:embed="rId1"/>
          <a:stretch/>
        </p:blipFill>
        <p:spPr>
          <a:xfrm>
            <a:off x="2362320" y="3505320"/>
            <a:ext cx="42670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ild a Career &amp; Set New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4" descr="Picture"/>
          <p:cNvPicPr/>
          <p:nvPr/>
        </p:nvPicPr>
        <p:blipFill>
          <a:blip r:embed="rId1"/>
          <a:stretch/>
        </p:blipFill>
        <p:spPr>
          <a:xfrm>
            <a:off x="2197080" y="182736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0:27:04Z</dcterms:created>
  <dc:creator>unknown</dc:creator>
  <dc:description/>
  <dc:language>en-US</dc:language>
  <cp:lastModifiedBy>ccstudent</cp:lastModifiedBy>
  <dcterms:modified xsi:type="dcterms:W3CDTF">2011-06-12T12:29:53Z</dcterms:modified>
  <cp:revision>5</cp:revision>
  <dc:subject/>
  <dc:title>Daniel “Alicea” Reyes</dc:title>
</cp:coreProperties>
</file>